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91028"/>
        <c:axId val="53285725"/>
      </c:barChart>
      <c:catAx>
        <c:axId val="18891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85725"/>
        <c:crosses val="autoZero"/>
        <c:auto val="1"/>
        <c:lblAlgn val="ctr"/>
        <c:lblOffset val="100"/>
        <c:noMultiLvlLbl val="0"/>
      </c:catAx>
      <c:valAx>
        <c:axId val="53285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91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47E-B90A-4DFD-A1AF-A8B4BEF8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5E6-3832-4763-ACBD-72F58364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FD3-480A-4A60-A46C-FFF49E6C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FB3-87DA-483A-8E61-123EA028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99F-1069-448C-8011-9AE1BD66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ECD-155A-4715-81FB-CE6B6EA4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171-A21D-406A-BD04-A42A6064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94D-5377-4D54-9DA0-1AA556B1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0EA-8795-47D8-AE55-BAE4E15B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B05-7AF6-4643-B845-6F8A00B9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FAC-777F-439B-8404-DB1ADEE3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94E-DCE7-432A-BCCD-1956280C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1D745-F113-4F1C-A550-A0E84071E9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