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11446"/>
        <c:axId val="11052519"/>
      </c:barChart>
      <c:catAx>
        <c:axId val="335114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52519"/>
        <c:crosses val="autoZero"/>
        <c:auto val="1"/>
        <c:lblAlgn val="ctr"/>
        <c:lblOffset val="100"/>
        <c:noMultiLvlLbl val="0"/>
      </c:catAx>
      <c:valAx>
        <c:axId val="11052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114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EF6-C910-4D28-9071-72BF74625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B7B-347C-4127-8A4B-DB373149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D47-97F0-4093-86FC-4EAEC352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D91-5167-4DDD-A2E5-909075EC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22B-6A12-4CD8-8A88-34D5DD75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65C-F88C-4D5A-91DB-594E1FB3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83B-B3DF-48F7-8ED6-F8D09943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28CC-D8D0-4C56-AF1E-326C1AD9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FD4-7FC9-4D02-A7BF-E6A5CD89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393-F9DC-4F7F-B7D4-68624D2C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87D-1395-4E67-A868-1D426261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CF8-D42A-4AB3-91ED-F489384E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CF133-F95E-4588-9695-62C8E4CA7F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