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5069"/>
        <c:axId val="32568779"/>
      </c:barChart>
      <c:catAx>
        <c:axId val="6975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68779"/>
        <c:crosses val="autoZero"/>
        <c:auto val="1"/>
        <c:lblAlgn val="ctr"/>
        <c:lblOffset val="100"/>
        <c:noMultiLvlLbl val="0"/>
      </c:catAx>
      <c:valAx>
        <c:axId val="325687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5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2D6D-7883-41BA-991E-69A82DE75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E968-FDFA-4ABD-8C2C-F0569014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F853-A0E7-45E8-8AE5-D9273B97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E5C-41E5-4E81-B350-678B673D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63E-8EA5-4F81-A3BC-E04C328BB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EAFB-0AF6-4759-B807-225FEABC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AD5-04D2-455C-B6C4-12E54F7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4D7-E2F8-4602-AD00-1B5765EF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CE6-430B-4117-8FC8-3549E180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66D0-6D45-4D18-BE41-3985ABB2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14BB-2EF4-40D5-B774-3A163475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42E-88C2-4738-8AA1-3A3BFCFD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D597A-4C67-41B2-87E7-AD2F4EB9D6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