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33953"/>
        <c:axId val="8587801"/>
      </c:barChart>
      <c:catAx>
        <c:axId val="38833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7801"/>
        <c:crosses val="autoZero"/>
        <c:auto val="1"/>
        <c:lblAlgn val="ctr"/>
        <c:lblOffset val="100"/>
        <c:noMultiLvlLbl val="0"/>
      </c:catAx>
      <c:valAx>
        <c:axId val="8587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3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76D-F88D-4EAA-AE36-27158537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1EC-9CCE-4F8C-A2B6-7E0936C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052-E1A1-4191-B603-18ECEDF9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ED7-D904-416E-AE48-DBF9F918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2FB-B8D4-43F3-9C40-731DAAB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D86-095A-46FE-BA8F-731840A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5C5-BAD1-40D9-9341-C8CE65B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E7D-97FE-4579-9859-858C29E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B25-5C8B-4CC1-A5A3-3279875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CA-7BED-4F8E-99F1-CF14EB0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8F6-971D-407F-9D3D-656BD8D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C75-9259-43DA-8B57-C0120C9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3263B-1D15-44DE-813D-A2342F9DA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